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337-DE15-4691-9A4D-BCCD7B8E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475-F600-42D0-B416-EF60FB43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BD9-1097-449E-B49B-CD28A7D0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A44-9615-4EF5-8DDF-87D880B8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57A5-3426-4E19-A047-99F35C43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3D36-446D-4AF8-877D-9DD6FBCB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3D5C-CE6B-40EB-AD28-BC900C18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9C9A-F39B-4473-85AC-1DC119DE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3B36-5EEF-444D-86B2-D766038A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4ACC-EEF0-4951-A9A7-10BD196D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1021-CB03-4CFB-9E2E-D7A1E177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2CC-662C-4CD7-894C-EF619042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19F8-BD36-4681-BAEA-93F34DC4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E281-6D8D-4F1B-9E76-F8B2293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9FEE-C10A-4AEB-A8CD-A13A2CE2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560A-4670-497B-9D65-EB8F51F3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E194-48F9-4918-A0C4-A43E67F9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3D1-0AC6-4810-AFDE-4C16D398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EC8-18B4-422B-BC9C-038B7DFD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D74-3B76-4F77-A8CC-0899818D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DA6-7955-4E4C-BD54-37E3D54C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63B-EB8E-4555-A572-74A1DE6B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844-081C-46F8-A3FD-16DF0D3D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8C4-9F98-4D52-8E4C-5109474F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EB4B-65F5-4E6A-B85E-20E45551F7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1798-D933-40C0-A1F4-ADBD6FC89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31640" y="333360"/>
            <a:ext cx="2644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Matsys coll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46083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ynnwch bedair mats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dael pedwar triong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hafalochrog o’r un ma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169960" y="724320"/>
            <a:ext cx="3144960" cy="5064480"/>
            <a:chOff x="5169960" y="724320"/>
            <a:chExt cx="3144960" cy="5064480"/>
          </a:xfrm>
        </p:grpSpPr>
        <p:grpSp>
          <p:nvGrpSpPr>
            <p:cNvPr id="101" name=""/>
            <p:cNvGrpSpPr/>
            <p:nvPr/>
          </p:nvGrpSpPr>
          <p:grpSpPr>
            <a:xfrm>
              <a:off x="5992560" y="724320"/>
              <a:ext cx="1499400" cy="1240560"/>
              <a:chOff x="5992560" y="724320"/>
              <a:chExt cx="1499400" cy="124056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6665040" y="724320"/>
                <a:ext cx="696600" cy="1018440"/>
                <a:chOff x="6665040" y="724320"/>
                <a:chExt cx="696600" cy="1018440"/>
              </a:xfrm>
            </p:grpSpPr>
            <p:sp>
              <p:nvSpPr>
                <p:cNvPr id="103" name=""/>
                <p:cNvSpPr/>
                <p:nvPr/>
              </p:nvSpPr>
              <p:spPr>
                <a:xfrm rot="14298000">
                  <a:off x="6661440" y="1317960"/>
                  <a:ext cx="88164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14298000">
                  <a:off x="6678000" y="803160"/>
                  <a:ext cx="29376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6258240" y="1789200"/>
                <a:ext cx="1233720" cy="175680"/>
                <a:chOff x="6258240" y="1789200"/>
                <a:chExt cx="1233720" cy="1756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6258240" y="1847880"/>
                  <a:ext cx="974160" cy="5832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167240" y="1789200"/>
                  <a:ext cx="324720" cy="1756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992560" y="887040"/>
                <a:ext cx="669240" cy="1033200"/>
                <a:chOff x="5992560" y="887040"/>
                <a:chExt cx="669240" cy="1033200"/>
              </a:xfrm>
            </p:grpSpPr>
            <p:sp>
              <p:nvSpPr>
                <p:cNvPr id="109" name=""/>
                <p:cNvSpPr/>
                <p:nvPr/>
              </p:nvSpPr>
              <p:spPr>
                <a:xfrm rot="7194600">
                  <a:off x="5972760" y="1252800"/>
                  <a:ext cx="88200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7194600">
                  <a:off x="6003000" y="1646640"/>
                  <a:ext cx="29412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5169960" y="1958400"/>
              <a:ext cx="1499400" cy="1240560"/>
              <a:chOff x="5169960" y="1958400"/>
              <a:chExt cx="1499400" cy="12405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5842440" y="1958400"/>
                <a:ext cx="696600" cy="1018440"/>
                <a:chOff x="5842440" y="1958400"/>
                <a:chExt cx="696600" cy="1018440"/>
              </a:xfrm>
            </p:grpSpPr>
            <p:sp>
              <p:nvSpPr>
                <p:cNvPr id="113" name=""/>
                <p:cNvSpPr/>
                <p:nvPr/>
              </p:nvSpPr>
              <p:spPr>
                <a:xfrm rot="14298000">
                  <a:off x="5838840" y="2552040"/>
                  <a:ext cx="88164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4298000">
                  <a:off x="5855400" y="2037240"/>
                  <a:ext cx="29376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435640" y="3023280"/>
                <a:ext cx="1233720" cy="175680"/>
                <a:chOff x="5435640" y="3023280"/>
                <a:chExt cx="1233720" cy="1756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435640" y="3081960"/>
                  <a:ext cx="974160" cy="5832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344640" y="3023280"/>
                  <a:ext cx="324720" cy="1756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169960" y="2121120"/>
                <a:ext cx="669240" cy="1033200"/>
                <a:chOff x="5169960" y="2121120"/>
                <a:chExt cx="669240" cy="1033200"/>
              </a:xfrm>
            </p:grpSpPr>
            <p:sp>
              <p:nvSpPr>
                <p:cNvPr id="119" name=""/>
                <p:cNvSpPr/>
                <p:nvPr/>
              </p:nvSpPr>
              <p:spPr>
                <a:xfrm rot="7194600">
                  <a:off x="5150160" y="2486880"/>
                  <a:ext cx="88200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7194600">
                  <a:off x="5180400" y="2880720"/>
                  <a:ext cx="29412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" name=""/>
            <p:cNvGrpSpPr/>
            <p:nvPr/>
          </p:nvGrpSpPr>
          <p:grpSpPr>
            <a:xfrm>
              <a:off x="6815520" y="1958400"/>
              <a:ext cx="1499400" cy="1240560"/>
              <a:chOff x="6815520" y="1958400"/>
              <a:chExt cx="1499400" cy="12405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7488000" y="1958400"/>
                <a:ext cx="696600" cy="1018440"/>
                <a:chOff x="7488000" y="1958400"/>
                <a:chExt cx="696600" cy="1018440"/>
              </a:xfrm>
            </p:grpSpPr>
            <p:sp>
              <p:nvSpPr>
                <p:cNvPr id="123" name=""/>
                <p:cNvSpPr/>
                <p:nvPr/>
              </p:nvSpPr>
              <p:spPr>
                <a:xfrm rot="14298000">
                  <a:off x="7484400" y="2552040"/>
                  <a:ext cx="88164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4298000">
                  <a:off x="7500960" y="2037240"/>
                  <a:ext cx="29376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7081200" y="3023280"/>
                <a:ext cx="1233720" cy="175680"/>
                <a:chOff x="7081200" y="3023280"/>
                <a:chExt cx="1233720" cy="175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7081200" y="3081960"/>
                  <a:ext cx="974160" cy="5832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990200" y="3023280"/>
                  <a:ext cx="324720" cy="17568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815520" y="2121120"/>
                <a:ext cx="669240" cy="1033200"/>
                <a:chOff x="6815520" y="2121120"/>
                <a:chExt cx="669240" cy="1033200"/>
              </a:xfrm>
            </p:grpSpPr>
            <p:sp>
              <p:nvSpPr>
                <p:cNvPr id="129" name=""/>
                <p:cNvSpPr/>
                <p:nvPr/>
              </p:nvSpPr>
              <p:spPr>
                <a:xfrm rot="7194600">
                  <a:off x="6795720" y="2486880"/>
                  <a:ext cx="88200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7194600">
                  <a:off x="6825960" y="2880720"/>
                  <a:ext cx="29412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5212800" y="3100320"/>
              <a:ext cx="754200" cy="1116720"/>
              <a:chOff x="5212800" y="3100320"/>
              <a:chExt cx="754200" cy="1116720"/>
            </a:xfrm>
          </p:grpSpPr>
          <p:sp>
            <p:nvSpPr>
              <p:cNvPr id="132" name=""/>
              <p:cNvSpPr/>
              <p:nvPr/>
            </p:nvSpPr>
            <p:spPr>
              <a:xfrm flipH="1" rot="3503400">
                <a:off x="5197320" y="3754080"/>
                <a:ext cx="974160" cy="63000"/>
              </a:xfrm>
              <a:prstGeom prst="rect">
                <a:avLst/>
              </a:prstGeom>
              <a:solidFill>
                <a:srgbClr val="ffcc99">
                  <a:alpha val="71000"/>
                </a:srgbClr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3503400">
                <a:off x="5215680" y="3193200"/>
                <a:ext cx="324720" cy="18936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965560" y="3296880"/>
              <a:ext cx="687240" cy="1119240"/>
              <a:chOff x="5965560" y="3296880"/>
              <a:chExt cx="687240" cy="1119240"/>
            </a:xfrm>
          </p:grpSpPr>
          <p:sp>
            <p:nvSpPr>
              <p:cNvPr id="135" name=""/>
              <p:cNvSpPr/>
              <p:nvPr/>
            </p:nvSpPr>
            <p:spPr>
              <a:xfrm flipH="1" rot="17908800">
                <a:off x="5922720" y="3697200"/>
                <a:ext cx="949680" cy="64800"/>
              </a:xfrm>
              <a:prstGeom prst="rect">
                <a:avLst/>
              </a:prstGeom>
              <a:solidFill>
                <a:srgbClr val="ffcc99">
                  <a:alpha val="71000"/>
                </a:srgbClr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17908800">
                <a:off x="5968080" y="4132800"/>
                <a:ext cx="316440" cy="19476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036480" y="4455000"/>
              <a:ext cx="1493640" cy="1333800"/>
              <a:chOff x="6036480" y="4455000"/>
              <a:chExt cx="1493640" cy="133380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326640" y="4455000"/>
                <a:ext cx="1203480" cy="195120"/>
                <a:chOff x="6326640" y="4455000"/>
                <a:chExt cx="1203480" cy="195120"/>
              </a:xfrm>
            </p:grpSpPr>
            <p:sp>
              <p:nvSpPr>
                <p:cNvPr id="139" name=""/>
                <p:cNvSpPr/>
                <p:nvPr/>
              </p:nvSpPr>
              <p:spPr>
                <a:xfrm flipH="1" rot="10805400">
                  <a:off x="6325920" y="4519800"/>
                  <a:ext cx="950040" cy="648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 rot="10805400">
                  <a:off x="7212600" y="4455000"/>
                  <a:ext cx="31680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036480" y="4472280"/>
                <a:ext cx="754200" cy="1116360"/>
                <a:chOff x="6036480" y="4472280"/>
                <a:chExt cx="754200" cy="1116360"/>
              </a:xfrm>
            </p:grpSpPr>
            <p:sp>
              <p:nvSpPr>
                <p:cNvPr id="142" name=""/>
                <p:cNvSpPr/>
                <p:nvPr/>
              </p:nvSpPr>
              <p:spPr>
                <a:xfrm flipH="1" rot="3503400">
                  <a:off x="6021000" y="5125680"/>
                  <a:ext cx="974160" cy="6300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3503400">
                  <a:off x="6039360" y="4565160"/>
                  <a:ext cx="324720" cy="1893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789600" y="4669200"/>
                <a:ext cx="687240" cy="1119600"/>
                <a:chOff x="6789600" y="4669200"/>
                <a:chExt cx="687240" cy="1119600"/>
              </a:xfrm>
            </p:grpSpPr>
            <p:sp>
              <p:nvSpPr>
                <p:cNvPr id="145" name=""/>
                <p:cNvSpPr/>
                <p:nvPr/>
              </p:nvSpPr>
              <p:spPr>
                <a:xfrm flipH="1" rot="17908800">
                  <a:off x="6746400" y="5069880"/>
                  <a:ext cx="950040" cy="64440"/>
                </a:xfrm>
                <a:prstGeom prst="rect">
                  <a:avLst/>
                </a:prstGeom>
                <a:solidFill>
                  <a:srgbClr val="ffcc99">
                    <a:alpha val="71000"/>
                  </a:srgbClr>
                </a:solidFill>
                <a:ln w="9360">
                  <a:solidFill>
                    <a:srgbClr val="ff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 rot="17908800">
                  <a:off x="6792120" y="5505480"/>
                  <a:ext cx="317160" cy="194760"/>
                </a:xfrm>
                <a:prstGeom prst="ellipse">
                  <a:avLst/>
                </a:prstGeom>
                <a:solidFill>
                  <a:srgbClr val="ff5050"/>
                </a:solidFill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6721560" y="3100320"/>
              <a:ext cx="754200" cy="1116720"/>
              <a:chOff x="6721560" y="3100320"/>
              <a:chExt cx="754200" cy="1116720"/>
            </a:xfrm>
          </p:grpSpPr>
          <p:sp>
            <p:nvSpPr>
              <p:cNvPr id="148" name=""/>
              <p:cNvSpPr/>
              <p:nvPr/>
            </p:nvSpPr>
            <p:spPr>
              <a:xfrm flipH="1" rot="3503400">
                <a:off x="6706080" y="3754080"/>
                <a:ext cx="974160" cy="63000"/>
              </a:xfrm>
              <a:prstGeom prst="rect">
                <a:avLst/>
              </a:prstGeom>
              <a:solidFill>
                <a:srgbClr val="ffcc99">
                  <a:alpha val="71000"/>
                </a:srgbClr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rot="3503400">
                <a:off x="6724440" y="3193200"/>
                <a:ext cx="324720" cy="18936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473960" y="3296880"/>
              <a:ext cx="687240" cy="1119240"/>
              <a:chOff x="7473960" y="3296880"/>
              <a:chExt cx="687240" cy="1119240"/>
            </a:xfrm>
          </p:grpSpPr>
          <p:sp>
            <p:nvSpPr>
              <p:cNvPr id="151" name=""/>
              <p:cNvSpPr/>
              <p:nvPr/>
            </p:nvSpPr>
            <p:spPr>
              <a:xfrm flipH="1" rot="17908800">
                <a:off x="7431120" y="3697200"/>
                <a:ext cx="949680" cy="64800"/>
              </a:xfrm>
              <a:prstGeom prst="rect">
                <a:avLst/>
              </a:prstGeom>
              <a:solidFill>
                <a:srgbClr val="ffcc99">
                  <a:alpha val="71000"/>
                </a:srgbClr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17908800">
                <a:off x="7476480" y="4132800"/>
                <a:ext cx="316440" cy="19476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46:00Z</dcterms:created>
  <dc:creator>Carwyn</dc:creator>
  <dc:description/>
  <dc:language>en-US</dc:language>
  <cp:lastModifiedBy>Carwyn</cp:lastModifiedBy>
  <dcterms:modified xsi:type="dcterms:W3CDTF">2008-12-07T19:47:46Z</dcterms:modified>
  <cp:revision>1</cp:revision>
  <dc:subject/>
  <dc:title>Matsys coll</dc:title>
</cp:coreProperties>
</file>